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move the slide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ink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C07-39AA-4FE6-B966-36CFB5091B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D867-A7D2-414B-8B45-F52636661858}" type="slidenum">
              <a:rPr b="0" lang="en-GB" sz="1200" spc="-1" strike="noStrike">
                <a:solidFill>
                  <a:srgbClr val="000000"/>
                </a:solidFill>
                <a:latin typeface="Twink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344-B738-4981-A1A7-ABA53E3070F5}" type="slidenum">
              <a:rPr b="0" lang="en-GB" sz="1200" spc="-1" strike="noStrike">
                <a:solidFill>
                  <a:srgbClr val="000000"/>
                </a:solidFill>
                <a:latin typeface="Twink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586-3529-4DDA-BEAC-B776EBA5B7D5}" type="slidenum">
              <a:rPr b="0" lang="en-GB" sz="1200" spc="-1" strike="noStrike">
                <a:solidFill>
                  <a:srgbClr val="000000"/>
                </a:solidFill>
                <a:latin typeface="Twink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257720" y="5710320"/>
            <a:ext cx="628560" cy="4014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wink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8629560" y="6729480"/>
            <a:ext cx="480960" cy="75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18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inkl SemiBold"/>
              </a:rPr>
              <a:t>Success Criteria</a:t>
            </a:r>
            <a:endParaRPr b="0" lang="en-US" sz="36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20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inkl SemiBold"/>
              </a:rPr>
              <a:t>Aim</a:t>
            </a:r>
            <a:endParaRPr b="0" lang="en-US" sz="36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21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7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255920" y="3219480"/>
            <a:ext cx="630360" cy="401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-371520" y="1974960"/>
            <a:ext cx="988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winkl SemiBold"/>
              </a:rPr>
              <a:t>Maths Mastery</a:t>
            </a:r>
            <a:endParaRPr b="0" lang="en-US" sz="8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1704960" y="3284640"/>
            <a:ext cx="57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winkl"/>
                <a:ea typeface="Twinkl"/>
              </a:rPr>
              <a:t>Regular and Irregular Polygons</a:t>
            </a:r>
            <a:endParaRPr b="0" lang="en-US" sz="36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023920" y="1989000"/>
          <a:ext cx="5023080" cy="3245040"/>
        </p:xfrm>
        <a:graphic>
          <a:graphicData uri="http://schemas.openxmlformats.org/drawingml/2006/table">
            <a:tbl>
              <a:tblPr/>
              <a:tblGrid>
                <a:gridCol w="2511720"/>
                <a:gridCol w="251136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winkl"/>
                        </a:rPr>
                        <a:t>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ink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winkl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ink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ink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ink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Rounded Rectangle 22"/>
          <p:cNvSpPr/>
          <p:nvPr/>
        </p:nvSpPr>
        <p:spPr>
          <a:xfrm>
            <a:off x="2921040" y="1257480"/>
            <a:ext cx="3292560" cy="431640"/>
          </a:xfrm>
          <a:prstGeom prst="roundRect">
            <a:avLst>
              <a:gd name="adj" fmla="val 19593"/>
            </a:avLst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Sort the polygons.</a:t>
            </a: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98720" y="507240"/>
            <a:ext cx="873612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  <a:ea typeface="Twinkl"/>
              </a:rPr>
              <a:t>Regular or Irregular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1" name="Rounded Rectangle 8"/>
          <p:cNvSpPr/>
          <p:nvPr/>
        </p:nvSpPr>
        <p:spPr>
          <a:xfrm>
            <a:off x="7604280" y="5897520"/>
            <a:ext cx="1012680" cy="447840"/>
          </a:xfrm>
          <a:prstGeom prst="roundRect">
            <a:avLst>
              <a:gd name="adj" fmla="val 16667"/>
            </a:avLst>
          </a:prstGeom>
          <a:solidFill>
            <a:srgbClr val="fec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Show 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2" name="Rounded Rectangle 9"/>
          <p:cNvSpPr/>
          <p:nvPr/>
        </p:nvSpPr>
        <p:spPr>
          <a:xfrm>
            <a:off x="7604280" y="5897520"/>
            <a:ext cx="1012680" cy="4478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Hide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3" name="Regular Pentagon 1"/>
          <p:cNvSpPr/>
          <p:nvPr/>
        </p:nvSpPr>
        <p:spPr>
          <a:xfrm>
            <a:off x="7642080" y="3495600"/>
            <a:ext cx="782640" cy="746280"/>
          </a:xfrm>
          <a:prstGeom prst="pentagon">
            <a:avLst/>
          </a:prstGeom>
          <a:solidFill>
            <a:srgbClr val="fedb6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4" name="Diamond 2"/>
          <p:cNvSpPr/>
          <p:nvPr/>
        </p:nvSpPr>
        <p:spPr>
          <a:xfrm>
            <a:off x="6804000" y="617400"/>
            <a:ext cx="743040" cy="743040"/>
          </a:xfrm>
          <a:prstGeom prst="diamond">
            <a:avLst/>
          </a:prstGeom>
          <a:solidFill>
            <a:srgbClr val="8bd8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5" name="Hexagon 4"/>
          <p:cNvSpPr/>
          <p:nvPr/>
        </p:nvSpPr>
        <p:spPr>
          <a:xfrm>
            <a:off x="6627960" y="5510160"/>
            <a:ext cx="855360" cy="738360"/>
          </a:xfrm>
          <a:prstGeom prst="hexagon">
            <a:avLst>
              <a:gd name="adj" fmla="val 29749"/>
              <a:gd name="vf" fmla="val 115470"/>
            </a:avLst>
          </a:pr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6" name="Octagon 7"/>
          <p:cNvSpPr/>
          <p:nvPr/>
        </p:nvSpPr>
        <p:spPr>
          <a:xfrm>
            <a:off x="581040" y="3554280"/>
            <a:ext cx="744480" cy="746280"/>
          </a:xfrm>
          <a:prstGeom prst="octagon">
            <a:avLst>
              <a:gd name="adj" fmla="val 29287"/>
            </a:avLst>
          </a:prstGeom>
          <a:solidFill>
            <a:srgbClr val="cc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7" name="Decagon 10"/>
          <p:cNvSpPr/>
          <p:nvPr/>
        </p:nvSpPr>
        <p:spPr>
          <a:xfrm>
            <a:off x="533520" y="1573200"/>
            <a:ext cx="745920" cy="746280"/>
          </a:xfrm>
          <a:custGeom>
            <a:avLst/>
            <a:gdLst/>
            <a:ahLst/>
            <a:rect l="l" t="t" r="r" b="b"/>
            <a:pathLst>
              <a:path w="745360" h="745360">
                <a:moveTo>
                  <a:pt x="0" y="372680"/>
                </a:moveTo>
                <a:lnTo>
                  <a:pt x="71176" y="142352"/>
                </a:lnTo>
                <a:lnTo>
                  <a:pt x="257516" y="1"/>
                </a:lnTo>
                <a:lnTo>
                  <a:pt x="487844" y="1"/>
                </a:lnTo>
                <a:lnTo>
                  <a:pt x="674184" y="142352"/>
                </a:lnTo>
                <a:lnTo>
                  <a:pt x="745360" y="372680"/>
                </a:lnTo>
                <a:lnTo>
                  <a:pt x="674184" y="603008"/>
                </a:lnTo>
                <a:lnTo>
                  <a:pt x="487844" y="745359"/>
                </a:lnTo>
                <a:lnTo>
                  <a:pt x="257516" y="745359"/>
                </a:lnTo>
                <a:lnTo>
                  <a:pt x="71176" y="603008"/>
                </a:lnTo>
                <a:lnTo>
                  <a:pt x="0" y="372680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30360" y="5484960"/>
            <a:ext cx="742680" cy="742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19" name="Isosceles Triangle 13"/>
          <p:cNvSpPr/>
          <p:nvPr/>
        </p:nvSpPr>
        <p:spPr>
          <a:xfrm>
            <a:off x="581040" y="4513320"/>
            <a:ext cx="834840" cy="7207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533520" y="614520"/>
            <a:ext cx="828720" cy="723600"/>
          </a:xfrm>
          <a:custGeom>
            <a:avLst/>
            <a:gdLst/>
            <a:ahLst/>
            <a:rect l="l" t="t" r="r" b="b"/>
            <a:pathLst>
              <a:path w="940037" h="820396">
                <a:moveTo>
                  <a:pt x="341832" y="0"/>
                </a:moveTo>
                <a:lnTo>
                  <a:pt x="0" y="820396"/>
                </a:lnTo>
                <a:lnTo>
                  <a:pt x="940037" y="615297"/>
                </a:lnTo>
                <a:lnTo>
                  <a:pt x="341832" y="0"/>
                </a:lnTo>
                <a:close/>
              </a:path>
            </a:pathLst>
          </a:custGeom>
          <a:solidFill>
            <a:srgbClr val="fedb6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7813800" y="641520"/>
            <a:ext cx="631800" cy="699840"/>
          </a:xfrm>
          <a:custGeom>
            <a:avLst/>
            <a:gdLst/>
            <a:ahLst/>
            <a:rect l="l" t="t" r="r" b="b"/>
            <a:pathLst>
              <a:path w="717847" h="794759">
                <a:moveTo>
                  <a:pt x="85458" y="59821"/>
                </a:moveTo>
                <a:lnTo>
                  <a:pt x="0" y="794759"/>
                </a:lnTo>
                <a:lnTo>
                  <a:pt x="717847" y="640935"/>
                </a:lnTo>
                <a:lnTo>
                  <a:pt x="692210" y="0"/>
                </a:lnTo>
                <a:lnTo>
                  <a:pt x="85458" y="59821"/>
                </a:lnTo>
                <a:close/>
              </a:path>
            </a:pathLst>
          </a:cu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2" name="Freeform 17"/>
          <p:cNvSpPr/>
          <p:nvPr/>
        </p:nvSpPr>
        <p:spPr>
          <a:xfrm>
            <a:off x="1639800" y="573120"/>
            <a:ext cx="623880" cy="689040"/>
          </a:xfrm>
          <a:custGeom>
            <a:avLst/>
            <a:gdLst/>
            <a:ahLst/>
            <a:rect l="l" t="t" r="r" b="b"/>
            <a:pathLst>
              <a:path w="709301" h="1059678">
                <a:moveTo>
                  <a:pt x="0" y="350377"/>
                </a:moveTo>
                <a:lnTo>
                  <a:pt x="0" y="1059678"/>
                </a:lnTo>
                <a:lnTo>
                  <a:pt x="709301" y="1051133"/>
                </a:lnTo>
                <a:lnTo>
                  <a:pt x="700755" y="376015"/>
                </a:lnTo>
                <a:lnTo>
                  <a:pt x="316195" y="0"/>
                </a:lnTo>
                <a:lnTo>
                  <a:pt x="0" y="350377"/>
                </a:lnTo>
                <a:close/>
              </a:path>
            </a:pathLst>
          </a:custGeom>
          <a:solidFill>
            <a:srgbClr val="7030a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3" name="Right Arrow 20"/>
          <p:cNvSpPr/>
          <p:nvPr/>
        </p:nvSpPr>
        <p:spPr>
          <a:xfrm>
            <a:off x="7778880" y="1542960"/>
            <a:ext cx="693720" cy="719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4" name="Freeform 21"/>
          <p:cNvSpPr/>
          <p:nvPr/>
        </p:nvSpPr>
        <p:spPr>
          <a:xfrm rot="18147600">
            <a:off x="7456320" y="4835160"/>
            <a:ext cx="1054080" cy="520920"/>
          </a:xfrm>
          <a:custGeom>
            <a:avLst/>
            <a:gdLst/>
            <a:ahLst/>
            <a:rect l="l" t="t" r="r" b="b"/>
            <a:pathLst>
              <a:path w="846033" h="828942">
                <a:moveTo>
                  <a:pt x="119641" y="0"/>
                </a:moveTo>
                <a:lnTo>
                  <a:pt x="0" y="230737"/>
                </a:lnTo>
                <a:lnTo>
                  <a:pt x="85457" y="828942"/>
                </a:lnTo>
                <a:lnTo>
                  <a:pt x="846033" y="777668"/>
                </a:lnTo>
                <a:lnTo>
                  <a:pt x="837487" y="358924"/>
                </a:lnTo>
                <a:lnTo>
                  <a:pt x="299102" y="444382"/>
                </a:lnTo>
                <a:lnTo>
                  <a:pt x="119641" y="0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5" name="Freeform 23"/>
          <p:cNvSpPr/>
          <p:nvPr/>
        </p:nvSpPr>
        <p:spPr>
          <a:xfrm>
            <a:off x="492120" y="2546280"/>
            <a:ext cx="865080" cy="785880"/>
          </a:xfrm>
          <a:custGeom>
            <a:avLst/>
            <a:gdLst/>
            <a:ahLst/>
            <a:rect l="l" t="t" r="r" b="b"/>
            <a:pathLst>
              <a:path w="1495514" h="1358781">
                <a:moveTo>
                  <a:pt x="401652" y="0"/>
                </a:moveTo>
                <a:lnTo>
                  <a:pt x="0" y="461472"/>
                </a:lnTo>
                <a:lnTo>
                  <a:pt x="435836" y="1358781"/>
                </a:lnTo>
                <a:lnTo>
                  <a:pt x="1495514" y="897308"/>
                </a:lnTo>
                <a:lnTo>
                  <a:pt x="1162228" y="282011"/>
                </a:lnTo>
                <a:lnTo>
                  <a:pt x="811851" y="649480"/>
                </a:lnTo>
                <a:lnTo>
                  <a:pt x="555477" y="444381"/>
                </a:lnTo>
                <a:lnTo>
                  <a:pt x="1051133" y="230736"/>
                </a:lnTo>
                <a:lnTo>
                  <a:pt x="401652" y="0"/>
                </a:lnTo>
                <a:close/>
              </a:path>
            </a:pathLst>
          </a:custGeom>
          <a:solidFill>
            <a:srgbClr val="8bd8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6" name="Freeform 26"/>
          <p:cNvSpPr/>
          <p:nvPr/>
        </p:nvSpPr>
        <p:spPr>
          <a:xfrm>
            <a:off x="7599240" y="2475000"/>
            <a:ext cx="820800" cy="803160"/>
          </a:xfrm>
          <a:custGeom>
            <a:avLst/>
            <a:gdLst/>
            <a:ahLst/>
            <a:rect l="l" t="t" r="r" b="b"/>
            <a:pathLst>
              <a:path w="1555334" h="1521151">
                <a:moveTo>
                  <a:pt x="581114" y="0"/>
                </a:moveTo>
                <a:lnTo>
                  <a:pt x="119641" y="478564"/>
                </a:lnTo>
                <a:lnTo>
                  <a:pt x="0" y="1068224"/>
                </a:lnTo>
                <a:lnTo>
                  <a:pt x="649480" y="1521151"/>
                </a:lnTo>
                <a:lnTo>
                  <a:pt x="1555334" y="1273323"/>
                </a:lnTo>
                <a:lnTo>
                  <a:pt x="1538243" y="598205"/>
                </a:lnTo>
                <a:lnTo>
                  <a:pt x="1333144" y="324740"/>
                </a:lnTo>
                <a:lnTo>
                  <a:pt x="940037" y="205099"/>
                </a:lnTo>
                <a:lnTo>
                  <a:pt x="581114" y="0"/>
                </a:lnTo>
                <a:close/>
              </a:path>
            </a:pathLst>
          </a:cu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3.7037E-006 L 0.32673 0.26875 E">
                                      <p:cBhvr>
                                        <p:cTn id="10" dur="25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-1.11111E-006 L 0.52534 0.2713 E">
                                      <p:cBhvr>
                                        <p:cTn id="13" dur="25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94444E-006 3.7037E-006 L 0.19809 0.12939 E">
                                      <p:cBhvr>
                                        <p:cTn id="16" dur="25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-2.22222E-006 L 0.61493 -0.01528 E">
                                      <p:cBhvr>
                                        <p:cTn id="19" dur="25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33333E-006 4.81481E-006 L 0.33142 -0.1595 E">
                                      <p:cBhvr>
                                        <p:cTn id="22" dur="25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1.85185E-006 L 0.17309 -0.16991 E">
                                      <p:cBhvr>
                                        <p:cTn id="25" dur="25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38889E-006 4.81481E-006 L 0.16996 -0.16227 E">
                                      <p:cBhvr>
                                        <p:cTn id="28" dur="25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22222E-006 -2.96296E-006 L -0.33559 0.38704 E">
                                      <p:cBhvr>
                                        <p:cTn id="31" dur="25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104 0.00278 L -0.34392 0.39491 E">
                                      <p:cBhvr>
                                        <p:cTn id="34" dur="25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-4.81481E-006 L -0.26423 0.32709 E">
                                      <p:cBhvr>
                                        <p:cTn id="37" dur="25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4.44444E-006 L -0.17205 0.1375 E">
                                      <p:cBhvr>
                                        <p:cTn id="40" dur="25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22222E-006 -3.7037E-007 L -0.4401 0.125 E">
                                      <p:cBhvr>
                                        <p:cTn id="43" dur="25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7 -4.07407E-006 L -0.16181 -0.06365 E">
                                      <p:cBhvr>
                                        <p:cTn id="46" dur="25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path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22222E-006 4.07407E-006 L -0.38837 -0.25533 E">
                                      <p:cBhvr>
                                        <p:cTn id="49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73 0.26875 L -1.94444E-006 -3.33333E-006 E">
                                      <p:cBhvr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34 0.2713 L 2.5E-006 3.7037E-007 E">
                                      <p:cBhvr>
                                        <p:cTn id="59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809 0.12939 L -3.14419E-018 3.7037E-006 E">
                                      <p:cBhvr>
                                        <p:cTn id="6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93 -0.01528 L 1.94444E-006 1.11111E-006 E">
                                      <p:cBhvr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142 -0.1595 L 2.22222E-006 -1.85185E-006 E">
                                      <p:cBhvr>
                                        <p:cTn id="65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09 -0.16991 L 5E-006 -1.48148E-006 E">
                                      <p:cBhvr>
                                        <p:cTn id="67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96 -0.16227 L 5E-006 -3.7037E-006 E">
                                      <p:cBhvr>
                                        <p:cTn id="69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559 0.38704 L 2.77778E-006 -4.44444E-006 E">
                                      <p:cBhvr>
                                        <p:cTn id="71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392 0.39491 L 4.72222E-006 2.96296E-006 E">
                                      <p:cBhvr>
                                        <p:cTn id="73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423 0.32709 L 3.05556E-006 7.40741E-007 E">
                                      <p:cBhvr>
                                        <p:cTn id="7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05 0.1375 L 3.61111E-006 -3.7037E-006 E">
                                      <p:cBhvr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01 0.125 L -4.16667E-006 2.96296E-006 E">
                                      <p:cBhvr>
                                        <p:cTn id="79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81 -0.06365 L -4.72222E-006 -2.59259E-006 E">
                                      <p:cBhvr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37 -0.25533 L 2.77778E-007 -3.7037E-006 E">
                                      <p:cBhvr>
                                        <p:cTn id="83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ounded Rectangle 22"/>
          <p:cNvSpPr/>
          <p:nvPr/>
        </p:nvSpPr>
        <p:spPr>
          <a:xfrm>
            <a:off x="561960" y="1473120"/>
            <a:ext cx="4778280" cy="430200"/>
          </a:xfrm>
          <a:prstGeom prst="roundRect">
            <a:avLst>
              <a:gd name="adj" fmla="val 19593"/>
            </a:avLst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Explain why this shape is a regular polygon.</a:t>
            </a: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98720" y="507240"/>
            <a:ext cx="873612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  <a:ea typeface="Twinkl"/>
              </a:rPr>
              <a:t>Regular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Rounded Rectangle 8"/>
          <p:cNvSpPr/>
          <p:nvPr/>
        </p:nvSpPr>
        <p:spPr>
          <a:xfrm>
            <a:off x="7604280" y="5897520"/>
            <a:ext cx="1012680" cy="447840"/>
          </a:xfrm>
          <a:prstGeom prst="roundRect">
            <a:avLst>
              <a:gd name="adj" fmla="val 16667"/>
            </a:avLst>
          </a:prstGeom>
          <a:solidFill>
            <a:srgbClr val="fec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Show 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30" name="Rounded Rectangle 9"/>
          <p:cNvSpPr/>
          <p:nvPr/>
        </p:nvSpPr>
        <p:spPr>
          <a:xfrm>
            <a:off x="7604280" y="5897520"/>
            <a:ext cx="1012680" cy="4478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Hide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winkl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31" name="Hexagon 24"/>
          <p:cNvSpPr/>
          <p:nvPr/>
        </p:nvSpPr>
        <p:spPr>
          <a:xfrm>
            <a:off x="2395440" y="2187720"/>
            <a:ext cx="4343400" cy="3639960"/>
          </a:xfrm>
          <a:prstGeom prst="hexagon">
            <a:avLst>
              <a:gd name="adj" fmla="val 26892"/>
              <a:gd name="vf" fmla="val 115470"/>
            </a:avLst>
          </a:prstGeom>
          <a:solidFill>
            <a:srgbClr val="fedb6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32" name="Hexagon 25"/>
          <p:cNvSpPr/>
          <p:nvPr/>
        </p:nvSpPr>
        <p:spPr>
          <a:xfrm>
            <a:off x="2395440" y="2187720"/>
            <a:ext cx="4343400" cy="3639960"/>
          </a:xfrm>
          <a:prstGeom prst="hexagon">
            <a:avLst>
              <a:gd name="adj" fmla="val 26892"/>
              <a:gd name="vf" fmla="val 115470"/>
            </a:avLst>
          </a:prstGeom>
          <a:solidFill>
            <a:srgbClr val="fedb6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inkl"/>
              </a:rPr>
              <a:t>All the sides have an equal length.</a:t>
            </a:r>
            <a:endParaRPr b="0" lang="en-US" sz="2800" spc="-1" strike="noStrike">
              <a:solidFill>
                <a:srgbClr val="000000"/>
              </a:solidFill>
              <a:latin typeface="Twink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inkl"/>
              </a:rPr>
              <a:t>All the internal angles are equal.</a:t>
            </a:r>
            <a:endParaRPr b="0" lang="en-US" sz="28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22"/>
          <p:cNvSpPr/>
          <p:nvPr/>
        </p:nvSpPr>
        <p:spPr>
          <a:xfrm>
            <a:off x="1882800" y="1379520"/>
            <a:ext cx="5369040" cy="568440"/>
          </a:xfrm>
          <a:prstGeom prst="roundRect">
            <a:avLst>
              <a:gd name="adj" fmla="val 9023"/>
            </a:avLst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Use a ruler and a protractor to draw a regular pentagon with a side length of 7cm.</a:t>
            </a: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8720" y="507240"/>
            <a:ext cx="873612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  <a:ea typeface="Twinkl"/>
              </a:rPr>
              <a:t>Draw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Regular Pentagon 1"/>
          <p:cNvSpPr/>
          <p:nvPr/>
        </p:nvSpPr>
        <p:spPr>
          <a:xfrm>
            <a:off x="2874960" y="2155680"/>
            <a:ext cx="3384720" cy="3224520"/>
          </a:xfrm>
          <a:prstGeom prst="pentagon">
            <a:avLst/>
          </a:pr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36" name="Rounded Rectangle 10"/>
          <p:cNvSpPr/>
          <p:nvPr/>
        </p:nvSpPr>
        <p:spPr>
          <a:xfrm>
            <a:off x="1882800" y="5775480"/>
            <a:ext cx="5369040" cy="569880"/>
          </a:xfrm>
          <a:prstGeom prst="roundRect">
            <a:avLst>
              <a:gd name="adj" fmla="val 9023"/>
            </a:avLst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Can you draw a different regular polygon?</a:t>
            </a:r>
            <a:endParaRPr b="0" lang="en-US" sz="18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on Seaton</cp:lastModifiedBy>
  <dcterms:modified xsi:type="dcterms:W3CDTF">2016-07-19T12:01:11Z</dcterms:modified>
  <cp:revision>310</cp:revision>
  <dc:subject/>
  <dc:title>Geography</dc:title>
</cp:coreProperties>
</file>